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32918400" cy="25603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5D6-5494-4451-96C3-C5938D1B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296294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4480" y="14799240"/>
            <a:ext cx="296294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E7B-0C8C-4C0D-843D-09829825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448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481-C70E-424E-A66E-FC60FBC1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200" y="597348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920" y="597348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4480" y="1479924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200" y="1479924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920" y="1479924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231-61E7-4B04-9366-26508F6A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4480" y="5973480"/>
            <a:ext cx="29629440" cy="168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25"/>
              </a:spcBef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327-643F-498E-979A-829C6DC8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296294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625-4827-429E-82FA-F5474069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F10-A823-4CA0-BC7C-4FCF77E4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F96-E944-4D6D-BA88-1A546BC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4480" y="1025280"/>
            <a:ext cx="29629440" cy="19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25"/>
              </a:spcBef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700-A4A3-42A0-B75D-EFCA11C0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448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576-DAAB-45A7-8E40-8977387B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91E-B3E2-4597-99AA-F355EDD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4480" y="14799240"/>
            <a:ext cx="296294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C4C-8A39-40DE-965B-1B5FF08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0" lang="en-US" sz="16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4480" y="5973480"/>
            <a:ext cx="296294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marL="1254240" indent="-125424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1" marL="2717640" indent="-104616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2" marL="4179960" indent="-83664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3" marL="5851440" indent="-83484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4" marL="7524720" indent="-83664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5" marL="7524720" indent="-83664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6" marL="7524720" indent="-83664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4480" y="23315760"/>
            <a:ext cx="7683840" cy="1777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5680" y="23315760"/>
            <a:ext cx="10427040" cy="1777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0080" y="23315760"/>
            <a:ext cx="7683840" cy="1777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Autofit/>
          </a:bodyPr>
          <a:lstStyle>
            <a:lvl1pPr indent="0" algn="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  <a:defRPr b="0" lang="en-US" sz="51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fld id="{35DAA208-0DFF-42ED-8110-28C1659B2E18}" type="slidenum"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133720" y="1104120"/>
            <a:ext cx="28955880" cy="23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F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cilita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 the team off to a quick start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everyone understands what is going on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s the team so they can complete the task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the team stays together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knows how to start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everyone get what to do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not sure we all understand… can someone help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someone explain it another way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keep moving together so we can…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133720" y="684360"/>
            <a:ext cx="28955880" cy="243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E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quity </a:t>
            </a: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M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oni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s equal participation and enforces use of norm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all voices are heard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s that all group members explain their thinki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es that all group members</a:t>
            </a:r>
            <a:r>
              <a:rPr b="1" lang="en-US" sz="9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others</a:t>
            </a:r>
            <a:r>
              <a:rPr b="1" lang="ja-JP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i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es for absent role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, no talking outside our team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work this out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someone restate what was just said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work on listening to each member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eam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133720" y="616680"/>
            <a:ext cx="28955880" cy="244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R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esource </a:t>
            </a: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M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oni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cc0000"/>
                </a:solidFill>
                <a:latin typeface="Symbol"/>
                <a:ea typeface="Symbol"/>
              </a:rPr>
              <a:t>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s team questions in order to determine if outside resources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ooks, notes, materials, people)</a:t>
            </a: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eeded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teacher over for team question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s, cares for, and returns supplie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s clean up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other materials/resources that would help us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we all have the same question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 call the teacher over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clean up. Can you... while I...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 algn="ctr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cc0000"/>
                </a:solidFill>
                <a:latin typeface="Symbol"/>
                <a:ea typeface="Symbol"/>
              </a:rPr>
              <a:t></a:t>
            </a:r>
            <a:r>
              <a:rPr b="0" lang="en-US" sz="27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133720" y="494640"/>
            <a:ext cx="28955880" cy="24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P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roduct </a:t>
            </a: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M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oni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cc0000"/>
                </a:solidFill>
                <a:latin typeface="Symbol"/>
                <a:ea typeface="Symbol"/>
              </a:rPr>
              <a:t>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each member understands the work, records the data, and can report out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update statements on team</a:t>
            </a:r>
            <a:r>
              <a:rPr b="1" lang="ja-JP" sz="95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Arial"/>
              </a:rPr>
              <a:t>s progress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the organization of the report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each group member</a:t>
            </a:r>
            <a:r>
              <a:rPr b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thinking is incorporated in the group</a:t>
            </a:r>
            <a:r>
              <a:rPr b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final product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♦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l of our ideas included in our final product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♦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veryone prepared to report out our ideas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♦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everyone get that in your notes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cc0000"/>
                </a:solidFill>
                <a:latin typeface="Symbol"/>
                <a:ea typeface="Symbol"/>
              </a:rPr>
              <a:t>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5:07:32Z</dcterms:created>
  <dc:creator>EPLT</dc:creator>
  <dc:description/>
  <dc:language>en-US</dc:language>
  <cp:lastModifiedBy>Shannon Warren</cp:lastModifiedBy>
  <dcterms:modified xsi:type="dcterms:W3CDTF">2015-08-10T18:08:18Z</dcterms:modified>
  <cp:revision>10</cp:revision>
  <dc:subject/>
  <dc:title>Slide 1</dc:title>
</cp:coreProperties>
</file>